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BA3-31BE-4EFA-8D04-FF832670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D75-C3D4-4C89-95D2-A49FEE68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2EA-F938-414A-98B9-31CE2766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B40-3340-455A-A51F-F08C2E91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B97-41FC-4711-8A96-E445A286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884-4A0A-41F3-AABC-3D9E1A2C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284-36D4-44A1-B233-91947D1E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C9E-C85A-4384-9824-58C6AB6D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82A-D805-4E46-84F8-B5977DCA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ADC-746A-4BAC-8C6E-C604A73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BC2-6DBA-4E18-9F5B-A2A19E1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3EE-0F00-4340-8B4E-81218B94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1610-C00A-464E-AB5D-C421EC55F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Kyr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11Z</dcterms:modified>
  <cp:revision>10</cp:revision>
  <dc:subject/>
  <dc:title>Confession (threefold form)</dc:title>
</cp:coreProperties>
</file>